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072-50EA-414A-AADF-DDF54278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889-7FC7-4B4E-9417-BDB43A3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877-CB27-4E74-98E4-AAAA97B8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77A-4EBD-4A7F-93F1-B90DDFBA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163-40E6-4EA4-9D23-9B27E874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73B-D968-4929-915C-9D7677EB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E1E-13EC-4B6C-9BDF-53650321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EFB-AF0B-4078-87E8-9BAFE604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744-A772-4A5E-A5F1-6485F3CE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DBA-A7D1-4D95-939D-F2972FE6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3F4-1B51-4322-ABFF-BA5159E2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394-F968-4063-9A0D-35819F8F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lbertus Medium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72CD-7C1C-4D17-BD9F-6E9615FB5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320" y="1066320"/>
            <a:ext cx="533412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lbertus Medium"/>
              </a:rPr>
              <a:t>Xmas 2005</a:t>
            </a:r>
            <a:br>
              <a:rPr sz="7200"/>
            </a:b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1440" y="198108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Hard a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lbertus Medium"/>
              </a:rPr>
              <a:t>Nice winter day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0920" y="45720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ertus Medium"/>
              </a:rPr>
              <a:t>Dog Goes wild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3080" y="2438280"/>
            <a:ext cx="1994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9:02:34Z</dcterms:created>
  <dc:creator>otv-5433</dc:creator>
  <dc:description/>
  <dc:language>en-US</dc:language>
  <cp:lastModifiedBy>otv-5433</cp:lastModifiedBy>
  <dcterms:modified xsi:type="dcterms:W3CDTF">2005-12-14T19:22:29Z</dcterms:modified>
  <cp:revision>2</cp:revision>
  <dc:subject/>
  <dc:title>Xmas 2005 </dc:title>
</cp:coreProperties>
</file>